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11.wmf" ContentType="image/x-wmf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0B3-17D9-4337-80AD-E59C406C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C2D-671C-4DCD-8B04-B7CB50D9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6D9-B201-4A87-A324-A046B63B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B6F-B41A-495E-92AA-F51304D1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9A7-7D16-44B6-BAC0-687668FF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38F-02A0-4070-B1D2-7744F5C2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961-47EE-48B8-87C1-FED7CCA9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0FA-9B12-4179-B1B6-3CB341F0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66F-E6D2-4601-B2E2-7729893E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ED9-1F65-4B7B-95DC-D1599668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4D0-6133-4B48-9ABC-5DA1FA38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408-4D20-4AA1-AC51-A6599970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FA25-0A06-454D-AB63-AB2FCA732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lv.zcache.com/funny_money_card-p137568192501206813qqld_400.jp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33360" y="533376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0"/>
            <a:ext cx="3733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Chiller"/>
              </a:rPr>
              <a:t>ScRatch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Chiller"/>
              <a:ea typeface="Chiller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Scratches was grey faced  Ninja cat, but a very sad ninja cat because h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 Geri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mm fish taste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5334120" cy="408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Geri's death came money, and Mr. Scratches got 10 million dollars from the wi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3754440"/>
            <a:ext cx="2949840" cy="310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62520" y="5181480"/>
            <a:ext cx="146052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29000" y="64771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 art all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 there was a person who was very, very bad and he was an angry leprechaun named A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419076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781680" y="6400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n the evil leprechaun went up to Mr. Scratches and said give me all the money! In a harsh and angry voice. But then Mr. Scratches said simply, “no” and Aran the evil leprechaun left and was never seen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48520" y="4419720"/>
            <a:ext cx="1888920" cy="165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9880" y="34290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440160"/>
            <a:ext cx="3886200" cy="3417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32448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29000" y="380880"/>
            <a:ext cx="3429000" cy="1371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 boy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3848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6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cache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unny mone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. 20, 10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lv.zcache.com/funny_money_card-p137568192501206813qqld_400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ltimate X-m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0.20.2010, http://www.google.com/imgres?imgurl=http://sydlexia.com/blogstuff/wheelchair_kitty_cat_2.png&amp;imgrefurl=http://despair.sydlexia.com/&amp;usg=__7BcK9xmS8PJ5fVzHJuVtgR-1xqE=&amp;h=586&amp;w=666&amp;sz=374&amp;hl=en&amp;start=3&amp;zoom=1&amp;itbs=1&amp;tbnid=vp5wJPG3PwwBAM:&amp;tbnh=121&amp;tbnw=138&amp;prev=/images%3Fq%3Dcat%2Bin%2Bwheelchair%26hl%3Den%26gbv%3D2%26tbs%3Disch: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 slides 2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3,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4, 5, 6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30032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00320" y="2881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8:44:49Z</dcterms:created>
  <dc:creator>install</dc:creator>
  <dc:description/>
  <dc:language>en-US</dc:language>
  <cp:lastModifiedBy>install</cp:lastModifiedBy>
  <dcterms:modified xsi:type="dcterms:W3CDTF">2010-11-05T19:25:54Z</dcterms:modified>
  <cp:revision>15</cp:revision>
  <dc:subject/>
  <dc:title>Slide 1</dc:title>
</cp:coreProperties>
</file>